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EB7-997F-434E-8294-2480C23F5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74A-541B-45F0-8E8A-48383135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A19-C735-4FF1-A230-A8E4F8AE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958-FE9E-4C1E-A473-1220F820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860A8-087E-49AC-8906-982B7C895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299F8-56AD-4073-9F1F-8DB85E2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0AF57-045F-41E9-A9C2-4EFC6140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55512-FB11-4999-8BF7-8FAACE46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10E23-65C8-48BB-84C2-965EB59C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5EC4B-B32A-4FD3-A448-E9FA0995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86934-D8F4-49AB-885B-B8861168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383-3A87-4F8D-B7D7-23B8660B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4D60B-BFF5-48E9-B5E5-CFFA825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9F386-BE38-40D3-B5C2-BB20ED0E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977EA-98FB-4080-B91F-FF00D0E7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3BABB-DC10-4AF8-B8DB-1D7A3B5C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CE897-F185-45B6-A843-D3A1B144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173-313C-47C5-B44A-ADD9340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441-D2B7-485B-B9E1-ABA2469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ED6-8404-44F7-9EEF-3009827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337-1DBD-453D-BBE9-9BC484B8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E72-2B1D-4149-94C1-A9BAEFD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BBC-F4B4-4CFB-928A-846E2BA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718-C215-4B6F-94AD-599A04C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67AC-5D07-4A03-8107-456329469F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19EA-362C-45E1-8F24-47E587A5AA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enal.net/tour/venado-caves/images/cave_tour_pic.jpg&amp;imgrefurl=http://www.arenal.net/tour/venado-caves.htm&amp;h=480&amp;w=640&amp;sz=91&amp;hl=en&amp;start=5&amp;um=1&amp;tbnid=LORQu8wJIQSQUM:&amp;tbnh=103&amp;tbnw=137&amp;prev=/images%3Fq%3Dcaves%26um%3D1%26hl%3Den%26sa%3D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a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Justin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400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o you want to know about bats?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ts eat a lot of foo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fish, insects, and lots of  different  kinds of fru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For example a picture of fru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92232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92232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07160" y="4038480"/>
            <a:ext cx="3336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Let me tell you about  bat home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ive in bushes, caves, and under c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438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re’s some facts  about bats’ birth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baby b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Happy Birthday!"/>
          <p:cNvPicPr/>
          <p:nvPr/>
        </p:nvPicPr>
        <p:blipFill>
          <a:blip r:embed="rId1"/>
          <a:stretch/>
        </p:blipFill>
        <p:spPr>
          <a:xfrm>
            <a:off x="1752480" y="2666880"/>
            <a:ext cx="6324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y have to  hunt for  their food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t of animals hunt  for food  but  mammals do it  the m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  hope you learned a lot about bats.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7:21:05Z</dcterms:modified>
  <cp:revision>5</cp:revision>
  <dc:subject/>
  <dc:title>Animal Name</dc:title>
</cp:coreProperties>
</file>